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D65-6B07-443D-87FF-D3CAEA37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7E5-8FC6-41CB-AB17-D0D4908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8DC-0138-41BC-A5C4-013F91AF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E9C-D99F-4D48-A56C-0E2B8098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30C-2B1A-4393-A54F-875DF7C0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1E57-551F-437E-AF89-295BF00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895-02EF-4A7E-9C88-3E8AE3DE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9010-EA94-4169-A541-35BA758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E297-46A3-4DF8-B283-A7553A76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BDA5-C604-44AC-AB27-F804219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781-F928-434F-A5FA-39CD993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E5B-726F-46A8-B959-662E4F1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190-CA0B-488B-98D1-FB1E3DAE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8C7-9FB0-4412-8048-CE4C5D9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746B-751F-42BB-B49B-3F597805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B4F-FA3D-4299-A2C5-0EA23CE0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A47-7601-4D83-B64A-B9FD2C8C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5EC-56A4-406D-8BF4-D50C73E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AEA-C05F-4240-BCEA-1F1F157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604-6747-45F3-B6F7-87B6103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FF5-162E-4400-AE56-5D81F724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BD2-D97C-4B92-A9EE-D268B80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FBB-5016-4B85-A26A-A71D12E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456-463D-4192-B236-1FB16AD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E7C-E731-4DD5-A1AF-4FCD703B85D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F13-6A78-4BF6-AC73-41800F32CD0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lnacht.com/cdrom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066160" y="0"/>
            <a:ext cx="1077840" cy="180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erike Hiller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kann ich es nachwei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r Nachweis erfolgt mit Schiffs Reag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ein Aldehyd enthalten, färbt sich die farblose Lösung violet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55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ild vergrößern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357720"/>
            <a:ext cx="69850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Inhal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s ist ein 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Eigenschaften hat 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Entsteh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ist seine Verwend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che Wirkung hat Formaldehy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 kann es hergestellt werd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Formaldehy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gentlich Meth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e Formel: HCHO oder 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304720" cy="1949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ccecff"/>
                </a:solidFill>
                <a:uFillTx/>
                <a:latin typeface="Arial"/>
              </a:rPr>
              <a:t>Was ist ein Aldehy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ch den Entzug von zwei Wasserstoffat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 einem primären 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der Oxidation von Methanol mit heißem Kupferoxid entsteht zunäch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ne instabile Zwischenverbindung, die dann Wasser abspal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dehyd entste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elche Eigenschaften hat 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b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chend riech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förm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nn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melzpunkt: -92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depunkt: -21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. Molekülmasse: 30,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üchtiges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hte: 0,82g/cm³ (bei -20°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388360" y="0"/>
            <a:ext cx="7556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Entsteh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auprodukt in der Na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dukt einer unvollständigen Verbrenn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steht im Stoffwechselproz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ch in Autoabga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m Tabakra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 den Fotooxidantien des Sommer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ie ist seine Verwendu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lfältig eingesetzte Chemikal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eimte Produkte aus Holzwerk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ämmstoffe  und Ausschäummaterial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trichsto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- und Steinwo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m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ünge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k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igungs-, Pflege. Und Desinfektionsmit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38960" y="0"/>
            <a:ext cx="90504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elche Wirkung hat Formaldehy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zt bereits in geringen Mengen: Augen,     Nase und Atemw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verdacht krebserregend zu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n zu: Schlaflosigkeit, Hautreizungen, Kopfschmerzen, Allergien, Übelkeit, Asthma, Bronchitis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hen Mengen kann es Lebensgefahr 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532720" y="0"/>
            <a:ext cx="611280" cy="127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Wie kann es hergestellt werd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nn mit oxidiertem Kupfer hergestellt we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ucht man ein oxidiertes Kupferdrahtnetz in ein Reagenzglas mit Methanol wird das Kupferoxid des Drahtnetzes wieder zu Kupfer reduzie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ährend das abgegeben Sauerstoffatom zuerst eine instabile Zwischenverbindung bild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ter Wasserabspaltung entsteht Meth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165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456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58972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06:14:51Z</dcterms:created>
  <dc:creator>P2800</dc:creator>
  <dc:description/>
  <dc:language>en-US</dc:language>
  <cp:lastModifiedBy>a</cp:lastModifiedBy>
  <dcterms:modified xsi:type="dcterms:W3CDTF">2006-03-15T14:18:21Z</dcterms:modified>
  <cp:revision>7</cp:revision>
  <dc:subject/>
  <dc:title>Formaldehyd</dc:title>
</cp:coreProperties>
</file>